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105237"/>
        <c:axId val="55263934"/>
      </c:barChart>
      <c:catAx>
        <c:axId val="671052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63934"/>
        <c:crosses val="autoZero"/>
        <c:auto val="1"/>
        <c:lblAlgn val="ctr"/>
        <c:lblOffset val="100"/>
        <c:noMultiLvlLbl val="0"/>
      </c:catAx>
      <c:valAx>
        <c:axId val="552639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052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DA72-A6D2-433B-BAFF-4D779568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1909-8CBC-4424-8993-32028743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714C-9A0E-4759-8FDA-FBB2DCFC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0290-3D54-4A30-AA5A-DD2B545E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8DC8-2B20-4744-A23D-34B9A930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7A97-2B54-4153-B120-48C9EFE4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A14D-9424-4095-ADAD-0E0F2BE6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9A83-C289-4FD0-B686-5BA1B6C3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5F0A-460A-4CDE-921A-42E18B06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F1BA-2FEC-44F2-BF6D-6F6DCCFB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7B8-6823-4E9A-95FB-001C6B0B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7BB4-7BC7-4770-B8F2-659FECB2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8FFA6-D485-448B-BD83-3678C8F81B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