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94877"/>
        <c:axId val="43860959"/>
      </c:barChart>
      <c:catAx>
        <c:axId val="3294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60959"/>
        <c:crosses val="autoZero"/>
        <c:auto val="1"/>
        <c:lblAlgn val="ctr"/>
        <c:lblOffset val="100"/>
        <c:noMultiLvlLbl val="0"/>
      </c:catAx>
      <c:valAx>
        <c:axId val="438609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4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96E9-DF46-4D3D-90A5-316F4C80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314-CB5D-4E19-BFFC-BEE585C5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8ED-46C4-46B5-9EBA-C5C00F58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7D9E-A16F-430E-8EE5-D2BA8D45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55A-B6A1-412D-9C32-B51E19FE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D8C-EEA7-4141-AB8F-A2C4D361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09F-3931-4471-B201-6F574E02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AD0-2A4B-4412-8221-6331ECE6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F53-8CA5-4EFA-B539-78CC5069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3B4-72B4-4036-B002-AFDBFB3D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442A-C553-43DB-A0DA-C1382A1C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0FF-7DF1-48A8-8E96-87B6C8B3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23AB6-EA4A-4743-BD7D-3DBC9CBCBD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