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70752"/>
        <c:axId val="12663376"/>
      </c:barChart>
      <c:catAx>
        <c:axId val="418707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63376"/>
        <c:crosses val="autoZero"/>
        <c:auto val="1"/>
        <c:lblAlgn val="ctr"/>
        <c:lblOffset val="100"/>
        <c:noMultiLvlLbl val="0"/>
      </c:catAx>
      <c:valAx>
        <c:axId val="126633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707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E671-3429-4FE2-BCA2-8928421A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FAFA-8BC1-4CA6-9ABF-098BB14E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FE08-F750-4D1B-ABF6-30F42E56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1CE-0DA8-4802-AB34-D59C9D2D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232-BFD5-4D4D-8380-6AAB55D8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58C1-8225-4B21-91CC-3F779BDA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7104-142E-442B-90B9-0115DF55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5495-D4B4-421E-8A8A-88877C98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5D77-9E78-4F59-B6EB-EC7AB6FF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E219-31AF-4D85-B56C-1543BD41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3B69-E0E2-4B16-B2BB-F25D2D95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7905-C11D-4F96-8C5E-4B945960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A8E94-A503-4675-82B1-B213A38C66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