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BD70D-F694-465E-846F-A3FF2F001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72943-D8BE-4C87-AE91-BAB6A5C8A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DD45E-A53A-4346-A871-29C93A8EA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2C51A-40DE-42AE-9718-008043BE6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2F8BA-327F-43F0-BC06-748E0D3AF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3F5D0-E110-4EBD-9AE1-0025A2CC7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69BEB-34D2-4786-933E-F50501C55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86CA3-E602-49D4-9F33-5E6137D12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C2602-5253-4AA3-8D5D-4394C8466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58C92-80F0-4445-B3C0-33EF305D9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C72F0-C527-4CE5-98B4-4208846F7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AEDF2-6AA0-45FA-B644-79C820019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ED09D-0D3B-4453-91E0-9D649B1A37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Symbol"/>
                <a:ea typeface="Symbol"/>
              </a:rPr>
              <a:t>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Symbol, Club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  <a:ea typeface="Arial"/>
              </a:rPr>
              <a:t>►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‘Normal’, Play arrow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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MT Sorts, 5 point sta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Wingdings, Smiley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8T10:46:03Z</dcterms:created>
  <dc:creator>Michael</dc:creator>
  <dc:description/>
  <dc:language>en-US</dc:language>
  <cp:lastModifiedBy>Michael</cp:lastModifiedBy>
  <dcterms:modified xsi:type="dcterms:W3CDTF">2004-08-18T10:49:19Z</dcterms:modified>
  <cp:revision>2</cp:revision>
  <dc:subject/>
  <dc:title>Slide 1</dc:title>
</cp:coreProperties>
</file>