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254C2-8B7C-492A-ACE5-56C37F3EF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BDD0D-4561-4A25-B436-742DF2DEB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19E5B-3786-495D-BFB7-4F0FAF657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4277E-28DD-4C26-BF15-E3C806933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2CD61-1AB0-4C8A-9F3A-C82BE5961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A1D8C-0B84-4977-A746-6265916A6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C11B0-9363-41F3-8478-07EF9793E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351CB-F60B-4A89-A4D6-740FD1125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E90D4-9BDF-41E5-B9E1-665491B8E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DD4DE-641A-4097-BCDE-195B2798B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620E4-6AC6-4C9F-8EA7-0EA10F0D6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30482-21FE-40C5-BC2E-10F3FC25C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99368-99A0-48C3-B959-BB33EFA53275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uturnArrow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-Tur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066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99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124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Strip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899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Notch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lef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hev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rightArrowCallout">
            <a:avLst>
              <a:gd name="adj1" fmla="val 25002"/>
              <a:gd name="adj2" fmla="val 25000"/>
              <a:gd name="adj3" fmla="val 33335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eftArrowCallout">
            <a:avLst>
              <a:gd name="adj1" fmla="val 25002"/>
              <a:gd name="adj2" fmla="val 25000"/>
              <a:gd name="adj3" fmla="val 33335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upArrowCallout">
            <a:avLst>
              <a:gd name="adj1" fmla="val 50007"/>
              <a:gd name="adj2" fmla="val 50003"/>
              <a:gd name="adj3" fmla="val 16667"/>
              <a:gd name="adj4" fmla="val 666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downArrowCallout">
            <a:avLst>
              <a:gd name="adj1" fmla="val 50007"/>
              <a:gd name="adj2" fmla="val 50003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ircular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95280" y="620640"/>
            <a:ext cx="6264360" cy="2952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leftRightArrow">
            <a:avLst>
              <a:gd name="adj1" fmla="val 50000"/>
              <a:gd name="adj2" fmla="val 3981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0:52:08Z</dcterms:created>
  <dc:creator>tb121644</dc:creator>
  <dc:description/>
  <dc:language>en-US</dc:language>
  <cp:lastModifiedBy>tb121644</cp:lastModifiedBy>
  <dcterms:modified xsi:type="dcterms:W3CDTF">2005-05-25T10:52:24Z</dcterms:modified>
  <cp:revision>1</cp:revision>
  <dc:subject/>
  <dc:title>Slide 1</dc:title>
</cp:coreProperties>
</file>