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97229"/>
        <c:axId val="99050618"/>
      </c:barChart>
      <c:catAx>
        <c:axId val="84597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0618"/>
        <c:crosses val="autoZero"/>
        <c:auto val="1"/>
        <c:lblAlgn val="ctr"/>
        <c:lblOffset val="100"/>
        <c:noMultiLvlLbl val="0"/>
      </c:catAx>
      <c:valAx>
        <c:axId val="99050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97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403-EE78-4A5C-901D-5FD44FE5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D4F-B308-4FBC-AD2D-31631E7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9A6-9B99-4099-8D28-7B6A1316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A35-6A62-4D21-9EE1-1C0E17E1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FA5-D3F4-44D2-AB71-AA2D8620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E5F-557E-4B8A-8B7A-03B1262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078-9E2D-47F7-BC1C-C7DABB88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86D-9630-478F-A268-5CF2C5DB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15F-9A48-43C3-835B-38714A54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9A8-06CD-44F8-9115-BF38BF09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2E0-034E-43C7-AF20-4FD3C8DD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C1A-3B79-44E6-8EF6-E3B204C7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F2170-8DD6-401C-AF80-1AF660026C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