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908017"/>
        <c:axId val="1486864"/>
      </c:barChart>
      <c:catAx>
        <c:axId val="979080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6864"/>
        <c:crosses val="autoZero"/>
        <c:auto val="1"/>
        <c:lblAlgn val="ctr"/>
        <c:lblOffset val="100"/>
        <c:noMultiLvlLbl val="0"/>
      </c:catAx>
      <c:valAx>
        <c:axId val="14868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080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4FC2-4B40-4F96-9198-1BA7D1B01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0314-F8AD-4B13-9D3F-4C2E8A30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7BC8-CE13-47E3-8ABA-B19B9BCA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5392-6403-473B-BD22-4B8D917B6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70CE-DF7A-4004-A4E3-13E29D91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2A11-7662-49C7-A44F-7CBF731C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4C4E-6B49-4C2C-A134-269A751A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DE76-9375-4953-86EF-2D56D3E2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7B0A-0E14-4AB0-9C6B-940581F9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7D43-5686-42E3-9D44-94F2AFA1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08F1-8FDD-4A60-8749-E0220E5D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656E-1DF4-41B5-912C-4D32A050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CB058-C656-4010-87A6-D7842575A6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