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79109"/>
        <c:axId val="89122729"/>
      </c:barChart>
      <c:catAx>
        <c:axId val="543791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22729"/>
        <c:crosses val="autoZero"/>
        <c:auto val="1"/>
        <c:lblAlgn val="ctr"/>
        <c:lblOffset val="100"/>
        <c:noMultiLvlLbl val="0"/>
      </c:catAx>
      <c:valAx>
        <c:axId val="89122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791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FE51-D4EE-485B-B8CD-D36145FF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347-5967-40DC-ACAE-B40101A6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57B-C4DF-47CB-8AC8-79E16901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18C-A285-4AD6-978E-963BEB6E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B1B-BE3A-4EC0-A352-B98A7901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48A-184E-4012-BE11-3FACD31F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8C7-F9EA-4572-9C03-D5E5D4D5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27BE-C7AF-4AFD-AEBB-50077A25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337-AB0B-4246-BC6C-A17AF557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89E-0B71-4C9D-879B-46F4BA7F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154-8703-49D0-A40A-F123E0FA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DAE-9B26-41FC-B779-BCAAF7B3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0EE75-5C8D-4FE8-92ED-A4754B42F0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