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696289"/>
        <c:axId val="99455026"/>
      </c:barChart>
      <c:catAx>
        <c:axId val="106962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55026"/>
        <c:crosses val="autoZero"/>
        <c:auto val="1"/>
        <c:lblAlgn val="ctr"/>
        <c:lblOffset val="100"/>
        <c:noMultiLvlLbl val="0"/>
      </c:catAx>
      <c:valAx>
        <c:axId val="994550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6962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6340-8C93-487E-8A0A-24940FA06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8916-4EB8-410C-AF39-CE421A855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52BE-0E13-458D-B98A-9CE9A8CAC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06FC-646B-48AF-9452-FAABB4A39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9D58-10CB-4ED6-B146-292940B5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5732-F7F2-4D4C-BDC7-8BF5E6E27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641D-FAD8-4077-8102-9DB67369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B0AC-9A72-417D-937E-473F9AF7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B1A8-8101-4303-8E29-4AEE6640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4388-8580-4C34-8180-AEEC394C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7A98-7C96-4E21-9C81-09663B17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017A-202C-4785-BD86-DD81A1CD6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EA87C1-B1A6-4CC3-AB6B-6FEC537DF9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