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374222"/>
        <c:axId val="67835770"/>
      </c:barChart>
      <c:catAx>
        <c:axId val="203742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835770"/>
        <c:crosses val="autoZero"/>
        <c:auto val="1"/>
        <c:lblAlgn val="ctr"/>
        <c:lblOffset val="100"/>
        <c:noMultiLvlLbl val="0"/>
      </c:catAx>
      <c:valAx>
        <c:axId val="678357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742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6D1C-E1EF-4636-88EA-887E20185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5ECC-EE6F-4EA9-9900-809EBE73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B070-58B4-4D9E-8E91-B5CED8DB2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3579-0B5C-4523-8D98-660CA799E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B37C-1FB1-42BC-9112-AC2C03A7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764F-6121-4049-9DB1-25156AA8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2607-F6BC-49DF-948F-3C2B251E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9E4F-6473-4BAC-BD04-A388C619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FA3A-8902-44B5-B692-532A4795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AD25-324C-46A0-8602-45FD3E61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82AE-F383-4EB4-8063-7800B824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F2FC-9B97-45E8-8C09-728693DD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885FBB-705F-45F0-8EA7-C86C649892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