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291047"/>
        <c:axId val="93488344"/>
      </c:barChart>
      <c:catAx>
        <c:axId val="932910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88344"/>
        <c:crosses val="autoZero"/>
        <c:auto val="1"/>
        <c:lblAlgn val="ctr"/>
        <c:lblOffset val="100"/>
        <c:noMultiLvlLbl val="0"/>
      </c:catAx>
      <c:valAx>
        <c:axId val="934883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910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77A3-D624-47FF-884C-77ECF207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0B01-23AF-4739-B595-C0C0C2A0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03CC-B29C-4B65-A3A3-78399A15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13E0-CAE7-43E9-946B-8366E16E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83FC-F69E-4AF7-A1B5-6876C732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0F7C-4D5E-4E5C-86B2-ECC59117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C290-D76C-4ED7-917B-328020F2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CDCD-207C-4158-B866-97B53DB4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3D4D-D3DC-4B7E-AB35-6F063645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1EEF-B430-430E-97F9-50CFA8B8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8E77-2EFF-4262-BBFA-D5D75042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C210-CFCF-448B-8FCB-487F3420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E084C-26D3-42D6-AA2D-2EB7EEDD19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