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49298"/>
        <c:axId val="6112691"/>
      </c:barChart>
      <c:catAx>
        <c:axId val="59949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2691"/>
        <c:crosses val="autoZero"/>
        <c:auto val="1"/>
        <c:lblAlgn val="ctr"/>
        <c:lblOffset val="100"/>
        <c:noMultiLvlLbl val="0"/>
      </c:catAx>
      <c:valAx>
        <c:axId val="6112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49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C95-1B35-4450-BE01-6FDC2C9D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2CD-6C1C-411F-B9DC-D04E23E5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EBE-331D-4658-9A51-B64DFF7B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50A-8715-489A-9F65-4A620C29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963-A37B-4489-9B1B-48F05257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78C-D126-4017-ABF6-7C826381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B4A-ECE2-421A-A984-B1C2EB51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DBF-1A3A-445A-A8BF-20387996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8F4-8E3A-46BB-80B3-427BFB1D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4F7-A365-4F0A-8623-98CF5325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162-928B-4BF0-A4E9-E619B680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E36-FF47-44AE-802E-05AF7DCA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A5D57-E4C6-427B-A263-B0A934B783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