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12136"/>
        <c:axId val="75017651"/>
      </c:barChart>
      <c:catAx>
        <c:axId val="45112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7651"/>
        <c:crosses val="autoZero"/>
        <c:auto val="1"/>
        <c:lblAlgn val="ctr"/>
        <c:lblOffset val="100"/>
        <c:noMultiLvlLbl val="0"/>
      </c:catAx>
      <c:valAx>
        <c:axId val="75017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12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75C-6A1D-49B4-AD3B-BB96955F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1A9-0467-4422-90A3-F5FE9F40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68F-E377-4CF8-AD2B-EB330FD6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060-2FD1-470C-9C78-0A87F586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598-A544-4DA2-9B5B-36C62DF1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4F8-0C84-4917-82C1-EB19B182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388-927A-40E3-8791-B9D0756B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A7A-234C-46BB-A9C3-EE8231E5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89D-FB4D-42A2-9DC1-48344343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7DF-4937-4C9A-AA2F-EC823374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4E2-DF6F-46B3-85D9-45EE1FDC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6FA-7B2A-4A6D-9817-E8A29DF5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9A3FD-4BE7-438D-9454-456E6E591C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