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13270"/>
        <c:axId val="91719643"/>
      </c:barChart>
      <c:catAx>
        <c:axId val="29713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19643"/>
        <c:crosses val="autoZero"/>
        <c:auto val="1"/>
        <c:lblAlgn val="ctr"/>
        <c:lblOffset val="100"/>
        <c:noMultiLvlLbl val="0"/>
      </c:catAx>
      <c:valAx>
        <c:axId val="91719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13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FB5-2A19-4D6F-B1BB-6240539A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E6A-5925-4E44-9666-3B0B80BD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FD4-C6F5-4084-80A7-3A88FEF9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877-CB2F-4460-BC0D-481AC880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8E9-5B63-468F-9A8E-7F49DB19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269-671A-48E1-95AC-D00944FC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6BC-77B1-4B9B-A83A-4C4E7367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8F5-262F-4C68-9BBB-6239A998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4E5-35D2-424E-B17D-C800ADF4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B71-3E79-4A1E-A6C3-29FD0835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764-E4CC-4D52-9798-1E6F405A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01D-8E56-42F3-BE3B-74015B1B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59E6D-DA91-4305-8062-304A500674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