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40439"/>
        <c:axId val="41109730"/>
      </c:barChart>
      <c:catAx>
        <c:axId val="94440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09730"/>
        <c:crosses val="autoZero"/>
        <c:auto val="1"/>
        <c:lblAlgn val="ctr"/>
        <c:lblOffset val="100"/>
        <c:noMultiLvlLbl val="0"/>
      </c:catAx>
      <c:valAx>
        <c:axId val="41109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0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527-112B-48EA-A7BC-C59D10BA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BD1-57BD-4DD4-8F94-BA1168B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FA2-E1A9-404A-A5BC-CCCBBF19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DFA-612A-473C-8F1A-6077C7DE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041-8754-437D-B436-7835FDE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A6F-5AA4-4364-990D-71B2919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08C-FBD1-424C-A6BB-7ABF428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439-1351-4A0B-BB39-A442DC50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094-DEAB-4FD4-8A5C-A276579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333-410A-4F11-8E3D-1AFD3E6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455-CA05-4E0F-AD2F-FCBB7C06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967-9B6D-488F-9C3F-5DC7F6C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FF1FD-585F-4C1E-8C27-E122E480F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